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40F-3AE8-470B-8B21-89360683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2E5-5261-4B5A-9FAA-B8D03AF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B9F-2059-47A5-873B-11842BB7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039-9BB5-47A5-9952-FF50F547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044-57D9-4516-B1AD-F19610A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C35-3118-4395-BE02-065B775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D4C-89D6-4614-98E1-5569BE11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9F5-5CC0-49F2-990B-CBF13E32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EF4-86BC-45D1-B1D8-D1B50BE8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464-C2AC-4E78-9A17-3AF7A8A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26A-11E3-4FB0-9B99-B17B1B0E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CCF-2E68-48DD-9356-E5C9A05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BEFB-DBBA-4D45-9F1F-0F23913F2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9194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NAVODILA OU O UPRAVIČENIH STROŠKIH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12560" y="1784520"/>
            <a:ext cx="96202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STANDARDNE LESTVICE STROŠKOV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rezulta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 in rezulta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rmula za urno postavko stroškov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I ZNE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kombiniranje vseh oblik „PO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73360" y="622080"/>
            <a:ext cx="7138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LAGE ZA PRIPRAVO NAVODI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51040" y="2154240"/>
            <a:ext cx="80438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VROPSKA ZAKONOD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e splošne uredbe in po posameznih sklad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CIONALNA ZAKONOD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KUŠNJE 2007-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ntrola upravič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eviz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50800" y="341280"/>
            <a:ext cx="6778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GLAVNE SPREMEMBE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1000" y="1633680"/>
            <a:ext cx="93088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548235"/>
                </a:solidFill>
                <a:latin typeface="Calibri"/>
              </a:rPr>
              <a:t>SPLOŠNE DEFINICIJE IN PRAV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stane z dnem opravljene storitve oziroma z dnem dobave bl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Rač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 1.1.2016 elektronska izmenjava podatkov med udeleženci E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jeme so določene v ZIPRS 14/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 okviru preverjanja upravičenosti se lahko zahteva dodatna dokazila, ki niso opredeljena v navodil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ovanje upravičenosti je dolžnost upraviče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 operacije, ki so predmet državnih pomoči, je potrebno preveriti rok hrambe dokument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7040" y="187200"/>
            <a:ext cx="30513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1640" y="1275840"/>
            <a:ext cx="9642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ZGRA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GRADNJA NEPREMIČ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javno-zasebno partner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avnomočno gradbeno dovoljenje z vsemi spremem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NEZAZIDANIH ZEMLJIŠ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datek nakupa nezazidanega zemljišča ne sme predstavljati več kakor 10% skupnih upravičenih stroškov in izdatkov operacije (15% ali 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za nakup nezazidanega zemljišča se lahko takoj po opravljenih preverjanjih vključi v ZAP, vendar se pri zadnjem ZZI preveri višino obračunanega delež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419120" y="1919160"/>
            <a:ext cx="91504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OPREMA IN DRUGA OPREDMETENA OSNOV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up je upravičen tudi v okviru 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ravičen je nakup vozil (v kolikor je neposredno povezano s cilji oper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rema, ki ne presega nabavne vrednosti 500 EUR in S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tografije opr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1093680" y="590400"/>
            <a:ext cx="855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95360" y="744480"/>
            <a:ext cx="6500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548235"/>
                </a:solidFill>
                <a:latin typeface="Calibri"/>
              </a:rPr>
              <a:t>AMORTIZACI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76240" y="2198160"/>
            <a:ext cx="901872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amortizacije je potrebno obračunati v skladu z nacionalnimi predpisi in internimi akti upravičenca, če ti določajo daljše obdobje amortiz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ačun za osnovno sredstvo, za katerega se uveljavlja amortizacija kot upravičen stro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5840" y="528120"/>
            <a:ext cx="8677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PLAČ IN POVRAČIL STROŠKOV V ZVEZI Z DELO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5480" y="193500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PLA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t zaposlene se razume osebe, ki so z upravičencem sklenile pogodbo o zaposlit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ba ali sklep o letnem dopu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ilo o plačilu vseh stroš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ZA SLUŽBENA POT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lometrina v skladu s 173. členom ZUJ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kupa dnevnih vinjet je upravičen le, če je namenjen izključno službenemu potovanju povezanem z oper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STORITEV ZUNANJIH IZVAJALC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80600" y="202896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okazilo o plačilu pripadajočih davkov in prispev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bračun avtorskega d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9800" y="856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17240" y="1373040"/>
            <a:ext cx="93092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O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 se lahko za vse vrste stroškov (ne le za posred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25% pavšalno financiranje za posredne stroške na podlagi metodolo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15% pavšalnega financiranja za posredne stroške, ki se določijo na podlagi upravičenih neposrednih stroškov za oseb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a stopenj pavšalnega financiranja, ki obstajajo v politikah Unije (Obzorje 2020,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SS – do 40% za vse ostale stroške glede na upravičene neposredne stroške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30T12:20:10Z</dcterms:modified>
  <cp:revision>21</cp:revision>
  <dc:subject/>
  <dc:title>POSTOPEK IMENOVANJA</dc:title>
</cp:coreProperties>
</file>